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022-C4A4-4DA3-9264-712351E1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927-3DC4-43C4-9B3E-35340EF5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BEA3A-D8AA-4A27-B7EB-578B5860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1D499-A3BB-4DBC-924E-E229311C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CFDE5-43A0-4F92-8771-D3D663E7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7BDF9-2BE7-4196-B864-61858011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655C2-2315-4501-B22B-6E649FE8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C2B08-F495-4668-B917-1DCAD3A4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BAB2D-FF7A-4C25-88B9-43D2F576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F99EC-BC16-4206-978F-F98FC4FA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EECE0-57A2-4635-A1A1-285B3F2E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F66-E6F2-44F8-97C8-83CE8426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0FD-1FC2-4246-99A6-A089F0A7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D512-57AB-4CBF-BEDF-D7CBAD2B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056D-DE0D-454F-8514-951521FF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DCB9-0615-4A5F-B6EC-FA2BD375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074F-51FF-4BEE-BB21-7FCBD215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0B0D-342E-4466-A176-0FDB5879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AB96-921C-4D2E-A8E9-F877A93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1ABC-E9EC-477C-9203-08399A34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DCB-7338-483F-967C-C668AB9A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D428-B79F-471A-92E2-C2184FBD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F3BD-30A5-4A02-BD6E-F3CF7E0D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06BB-48BE-4AC6-B767-B42F7237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84BD-EBA0-4AD1-B1A0-88F7275C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06F1-D72F-4783-8838-1493BBDF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0180-0D8E-439C-8A6D-B6BAC501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F1F5-F574-4A4B-85E7-794464D7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626E-3B88-4E17-B430-713E2E2B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AD58-3B89-4B52-B54B-FE911131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0345-3A3E-40FD-B51B-5EC76158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178-410A-400A-8ECA-0EA37B40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20FD-CCAE-46DB-9CB7-58DA3E40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3407-D136-4922-9F0D-EE5309ED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BFC8-1EF4-4967-86FD-B6BF1E24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BF24-2B9D-4099-8EE2-3819086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2A82-D712-48E2-BE7D-75882C8A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EBC3-06EF-46F1-BE79-E86A8E56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522E-8C45-4E01-A0F6-4DBCE7C4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B70A-4CC2-4807-B4F5-1D998928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1AB92-F33B-4957-9B0A-241BBDCD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8C4E-23E6-464A-80B0-AB7D162C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8B4-37C3-4DF0-AD23-72F7E51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F5ACC-C05E-4DA7-8331-D55C026C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CC33D-5472-43EB-B3ED-84C033AC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49712-A8BC-4791-B2EB-E001AA18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DFD0-E9BC-4798-9DD4-AD53886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6ED9-C37F-4C1B-BCB6-B14A82A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2A0E2-50CB-4F04-BB71-E5A7024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6923-FB61-43BA-B610-F98C16F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7316-EAF7-49B1-A169-28B327F7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BF06-67B8-4FF6-A3FF-FEDBB003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48C5-6A45-40B0-B19C-F58FF4E2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9BE-8D12-4BC2-94DE-7336FF40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A351-FF5C-4EBC-9EE2-35F75985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47680-AF32-4D4D-A0EC-3EB9CDA3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FF42C-DD31-4BAC-82AC-BB48BD5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260F7-94D9-4F44-AAAC-0A1D1FDA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09AD-C703-4ED4-ACF5-2C2C7121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486B3-CA33-49E9-B264-50537285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5649-DEDE-403D-83D3-EA5A3333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7D6D-2B4B-46BE-B11D-D3547F0E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BA4EC-1280-4454-9A21-571FD1C9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A176-520C-48E0-98AB-A841B38F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C8F-DDF7-4819-859B-ED3BEA41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41EEA-3C2C-42B2-B562-69EB89F1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1AC30-1FD3-4AF1-90B2-6A53998A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96A0-EC5F-46FE-8A45-D03C937F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438DC-39C2-43B4-BA98-0823C6F2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0974B-A3BD-46BB-86F3-0A807824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B0832-D3AB-4CCB-B491-F834E2AE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C7CF6-DBC4-48D9-AB72-323B16AE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0425B-D0F9-4739-AF43-CD5288A2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649E-E312-4325-98A2-561E89E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DF37E-6E01-4BC2-A009-C8DA99FD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8EA-C5B7-4759-BF44-727089F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3E9E-A61C-4F56-A47A-518279C9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2C856-9928-4C74-94DD-F3D9C3A7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DA2B6-E2CC-4227-B991-A7190CC1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1E3D5-691C-4935-9F54-73732EC4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93BB-729F-4523-A292-162B48A2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CE5A-77E5-4ACC-8F67-B2204BE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1559-65FB-480E-888D-5F439210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3C778-68F7-4E61-BE0E-9D5E552E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174E0-ADE7-4874-B72A-2705212F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013D-4A78-48CF-92D1-A5281D9A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922-A052-4FD3-95E2-3E220099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985C2-5227-4EEB-B45F-7EC73C53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1FB79-720C-48E7-9E4B-B907F2E4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E8F6-0977-44A0-A12F-3C827C7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7DB8C-14DB-4143-A67E-D980496C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F6D8E-DE35-4F27-AB8E-47695DB0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4D737-8AE4-4BB4-8D15-CD3C2822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A6F9E-0A40-44C8-B4A0-36290781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92588-E207-4692-9247-A5184120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8A08A-29A7-4833-BF04-789C0B2E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36884-7D02-456E-B69B-9577B2A5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C77-347B-4BA1-A66D-5223ABDF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822CC-FC0C-4F67-8759-8C23E8D1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F05E-1E30-41C8-99D7-B71336D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9B527-4BB2-4B06-B16B-9B39F9C9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A2471-F3FF-4259-BC33-16319E93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F6DC7-1334-4269-BA37-45A8E81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FAF9E-52F0-49BB-A5CF-E52F1599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E6A5F-E38B-4150-AED6-34F22F77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44808-7470-4047-99CF-38447B8C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7501E-51EC-482B-9D66-8DC822C9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45040-F506-430D-8CA6-65974649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AC24-0590-4200-B1F5-AD9A267036A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5677-008B-41D0-BE26-05F85A2E87E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775C-059B-43D2-BD75-55A4782A8CD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BAB2-150F-48EE-B72C-C2A33E48F9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1CAA-16B0-49CD-B438-22BADEF5FB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9B13-4749-4226-84DD-DC5AE2A60D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81A8-8E29-40E9-A2E8-EDAB9E2FCC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E579-8CF3-4F7F-A489-3DE8A52326D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33F0-B941-4481-9A94-6C0282F6DFF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Por Kendra Lon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5524560" y="0"/>
            <a:ext cx="3619440" cy="4356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2341440" y="0"/>
            <a:ext cx="3144960" cy="4343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mpieza en 1898 y termina con la Guerra Civil de 193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ra compuesto por escritores, artistas, arquitectos e intelectua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Miguel de Unamuno, Picasso y Antoni Gaudí eran algunos de los mas famosos de la generació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Hacían un sentido de orgullo que la gente española había perdid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ran opuestos a la Restablecimi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Tenían sentimientos y opiniones diferentes como se pueden reparar Españ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Ángel Ganiv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Pio Baroj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Azorí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Benito Pérez Galdó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4671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voluntad (1902), Antonio Azorín (1903), las confesiones de un pequeño filosofo (190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alma castellana (1900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Una hora de España (192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Tierra Vasca (1900-1909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4e3b30"/>
                </a:solidFill>
                <a:latin typeface="Franklin Gothic Book"/>
              </a:rPr>
              <a:t>La Casa de Aizgorri (1900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4e3b30"/>
                </a:solidFill>
                <a:latin typeface="Franklin Gothic Book"/>
              </a:rPr>
              <a:t>El Mayorazgo de Labraz (1903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Lucha por La Vida (1922-192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l árbol de la ciencia (1911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3182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Granada la bella (1896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La conquista del reino de Maya, por el ultimo conquistador español, Pio Cid (1897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El escultor de su alma (1906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6019920" y="3271680"/>
            <a:ext cx="31240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Dona Perfecta (1876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Marínela (1878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Fortunata y Jacinta (1886-7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e3b30"/>
                </a:solidFill>
                <a:latin typeface="Franklin Gothic Book"/>
              </a:rPr>
              <a:t>Ángel Guerra (1891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31338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59:33Z</dcterms:created>
  <dc:creator>Kendra Long</dc:creator>
  <dc:description/>
  <dc:language>en-US</dc:language>
  <cp:lastModifiedBy>Kendra Long</cp:lastModifiedBy>
  <dcterms:modified xsi:type="dcterms:W3CDTF">2008-09-29T04:58:31Z</dcterms:modified>
  <cp:revision>13</cp:revision>
  <dc:subject/>
  <dc:title>La Generación 98</dc:title>
</cp:coreProperties>
</file>